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76290"/>
        <c:axId val="59469443"/>
      </c:barChart>
      <c:catAx>
        <c:axId val="17476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9443"/>
        <c:crosses val="autoZero"/>
        <c:auto val="1"/>
        <c:lblAlgn val="ctr"/>
        <c:lblOffset val="100"/>
        <c:noMultiLvlLbl val="0"/>
      </c:catAx>
      <c:valAx>
        <c:axId val="59469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76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EC6-2A95-44A5-8119-B0A64C0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48C-65E2-4D18-BA3B-516334BC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4D9-79F8-42AF-8DD7-2C2C52A6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30D-456B-45B7-BE54-2E7E9FB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706-6E41-48C2-986D-C622F0D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029-C939-4BDE-A031-2D1DC77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19F-42B1-4738-B3E4-7DF22A0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BA0-70A5-4819-A550-EB7C7520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D63-ECE3-4242-B342-DD77428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2E1-C9E6-4A1B-98E6-3C22C30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C71-8A46-4FDF-B691-10DDC60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0A0-5866-4D2E-8470-FB61428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65BF3-8EB3-41BE-8416-D9FADD7FD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