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00565"/>
        <c:axId val="99384105"/>
      </c:barChart>
      <c:catAx>
        <c:axId val="26900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84105"/>
        <c:crosses val="autoZero"/>
        <c:auto val="1"/>
        <c:lblAlgn val="ctr"/>
        <c:lblOffset val="100"/>
        <c:noMultiLvlLbl val="0"/>
      </c:catAx>
      <c:valAx>
        <c:axId val="99384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0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D00-B2E1-4233-942F-C137BA23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C03-BA0A-4E5A-B07D-F84C5FC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C25-5694-4190-ACF0-FA75372A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B5C-1DA8-42D2-ACCA-D9583654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87E-9F93-4C7D-A481-0D9A561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049-7B58-490B-95FB-82C4BEE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EF4-5321-4301-B139-5140977A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40F-CB67-4544-8394-8B292A4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227-DD6E-4C67-9FE2-149477AC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7F5-08FD-4B35-8D2B-9C3AB00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8F6-287D-4753-9DD6-66AC6AB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715-58B0-4217-A506-257C593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F026-8117-4C1B-845F-0FFEB4254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