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132706"/>
        <c:axId val="30698570"/>
      </c:barChart>
      <c:catAx>
        <c:axId val="831327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698570"/>
        <c:crosses val="autoZero"/>
        <c:auto val="1"/>
        <c:lblAlgn val="ctr"/>
        <c:lblOffset val="100"/>
        <c:noMultiLvlLbl val="0"/>
      </c:catAx>
      <c:valAx>
        <c:axId val="306985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1327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0157-E695-40AB-A49A-0E0A147E3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42F9-7D7E-4247-B3B6-9B8879F2C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1D40-49AF-4121-BDEB-D99099878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57BE-0DB8-4E0D-A29E-3B26516F8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9969-CD8C-4FCA-85CD-CA31F24AA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CCEE-4A8F-4170-8CC0-C0A48646A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C0F7-0F0F-410C-BDD0-ED24CECEA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DEFB-F7B3-4104-B982-BA6786104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AA98-11C6-47CA-A1C9-635D8DF9D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7C2D-F82F-4D72-ABF3-D1BFBE91F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63F2-1BF5-4E65-9EFC-75D00D31D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7D18-C127-4680-ACBB-A2D320CC5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810BF3-D54F-4295-BFF4-5B4862560CF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