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34368"/>
        <c:axId val="91056848"/>
      </c:barChart>
      <c:catAx>
        <c:axId val="80734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56848"/>
        <c:crosses val="autoZero"/>
        <c:auto val="1"/>
        <c:lblAlgn val="ctr"/>
        <c:lblOffset val="100"/>
        <c:noMultiLvlLbl val="0"/>
      </c:catAx>
      <c:valAx>
        <c:axId val="910568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34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68B-4347-453E-84D6-1DCC83CA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9F3-EDA8-46F7-9605-A9B64108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3B0-C576-4762-8ECD-D8FC405A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6D75-A997-45BE-953A-E579534A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798-1276-4D7D-8FFC-5CD87EC9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C00-C66A-4C34-825E-157CE160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524-3DDB-432E-9D3C-2BB5378A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5790-A11A-4362-8889-6C7C1E66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CBF-CE36-4E5C-AB84-0DE040C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F9D-19CE-4577-B52F-7CE33FD1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D42-4135-40AD-844B-58713D1F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48F-CA2D-4316-94DC-8428F1FE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C2C4A-B134-47E5-BA56-3A4ADBCD84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