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82610"/>
        <c:axId val="88319110"/>
      </c:barChart>
      <c:catAx>
        <c:axId val="16182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19110"/>
        <c:crosses val="autoZero"/>
        <c:auto val="1"/>
        <c:lblAlgn val="ctr"/>
        <c:lblOffset val="100"/>
        <c:noMultiLvlLbl val="0"/>
      </c:catAx>
      <c:valAx>
        <c:axId val="88319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82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605-B341-4D3E-8210-32D594E8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35B-664A-4972-A051-D9D11834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0D5-F74B-4BDB-A6D3-9EB68431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672-4B3D-40F2-A8AA-20C4D4D3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F80-5DE0-42A7-9F75-E65BD61E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B64-00CD-41E4-A185-0F71B696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CEB-EEFA-42B9-9C22-BA21A2BB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446-063A-4A9D-979D-838C27A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E42-1192-48E7-A6F5-ECA2D22E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4A0-79E1-4DA0-86CB-64EDF781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7F7-BD5D-4026-90C2-2F77D83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861-4EE5-4E17-A1F8-81C510FF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ED494-AFF2-4CEC-99CF-679D93FB83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