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08898"/>
        <c:axId val="29961377"/>
      </c:barChart>
      <c:catAx>
        <c:axId val="82508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1377"/>
        <c:crosses val="autoZero"/>
        <c:auto val="1"/>
        <c:lblAlgn val="ctr"/>
        <c:lblOffset val="100"/>
        <c:noMultiLvlLbl val="0"/>
      </c:catAx>
      <c:valAx>
        <c:axId val="29961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8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A7D-840C-4CD3-A1E4-0EE83B42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A29-101D-4B95-A972-AD3B989F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9BF-FA09-4854-8D0F-CE82CD0F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19D-AC51-4714-9B99-B3D0DF12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FA5-8784-41DC-8D4A-357167A3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F9A-0006-46ED-801C-B5F6E4A8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0FF-FB7D-40B7-9745-BB1E6164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C54-D9CD-4D39-BB7F-E8E5F15E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250-0F1E-4BB4-837E-5492592B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A26-4E8D-45F1-A530-BB0A7A2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B16-CEE2-436A-8AB3-AAE28324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94C-034C-47A9-A3FB-90BB6FF8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C4B8E-C35E-4632-A442-95445CBEB7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