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57526"/>
        <c:axId val="95216158"/>
      </c:barChart>
      <c:catAx>
        <c:axId val="40557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16158"/>
        <c:crosses val="autoZero"/>
        <c:auto val="1"/>
        <c:lblAlgn val="ctr"/>
        <c:lblOffset val="100"/>
        <c:noMultiLvlLbl val="0"/>
      </c:catAx>
      <c:valAx>
        <c:axId val="95216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7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43F-FF5F-45B7-8082-3DE5B7C6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281-53B0-482E-B9FA-C10B051F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005-E6BC-4E10-A69C-FCEA4F64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F27-E30B-4F37-B62C-FF0ADDE8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8F7-2D2F-4770-B04C-8267E0C2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D68-1E9B-4129-8FF7-A18C021B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754-84A6-4D76-80C0-B03590B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C7F-9740-47F5-B1EC-153BADF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02F-57D5-422D-A761-19D8720A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87C-B406-4D0D-8253-4FD9391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1E6-81AA-4D64-BADE-B1DCF74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7F0-E483-483A-B602-E313281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D87B1-6682-4679-ADF4-D299FB40AA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