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77898"/>
        <c:axId val="67205310"/>
      </c:barChart>
      <c:catAx>
        <c:axId val="74377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05310"/>
        <c:crosses val="autoZero"/>
        <c:auto val="1"/>
        <c:lblAlgn val="ctr"/>
        <c:lblOffset val="100"/>
        <c:noMultiLvlLbl val="0"/>
      </c:catAx>
      <c:valAx>
        <c:axId val="67205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77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016-EC19-4206-80CA-E0D57F23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D4A-D959-43BA-B035-B3FB3E68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91C-DF6A-49C6-A5E9-02111BCA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BD3-C8D5-4C2B-90AB-68FC23F5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E08-0AB5-420A-873F-F79CF9AF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B8D-F888-44AC-85FE-11F78701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3EA-98D8-4636-A316-866F2A26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052-4F21-452C-A998-EFC9506B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A0C-B1ED-4C60-B73A-D7C8785F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CD0-E95F-4C6D-9387-FAE4BE37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43D-D540-4AAE-A9A3-329A2B5E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A2D-E6C8-486E-AEB4-A0AF0BB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6553F-1633-4F1A-9012-31C8C78594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