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52899"/>
        <c:axId val="15283293"/>
      </c:barChart>
      <c:catAx>
        <c:axId val="66252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83293"/>
        <c:crosses val="autoZero"/>
        <c:auto val="1"/>
        <c:lblAlgn val="ctr"/>
        <c:lblOffset val="100"/>
        <c:noMultiLvlLbl val="0"/>
      </c:catAx>
      <c:valAx>
        <c:axId val="15283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52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C1B-98D2-4D9F-B3DC-4D7DF408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631-3AFF-47D8-A6D4-C83DEBFA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51D-2875-4456-AF8B-EEB34038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9CE-C206-44C1-9785-7DE8C955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02F-1EB3-4F80-8D47-29AB464A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C0F-2CD3-453F-9D5B-D514162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35A-552F-4C65-8C2E-721ACDCA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1FF-543E-4E95-9DBA-539E647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9BD-6498-4D4C-A4AE-7A845882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3DC-DCE0-4CA7-A9F1-5721595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3D3-CD37-4F74-97C5-9EF0620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E78-7DFB-473B-B91E-6599AEA4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DF7E6-2906-414B-988D-B0860761F0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