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86726"/>
        <c:axId val="74320685"/>
      </c:barChart>
      <c:catAx>
        <c:axId val="378867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20685"/>
        <c:crosses val="autoZero"/>
        <c:auto val="1"/>
        <c:lblAlgn val="ctr"/>
        <c:lblOffset val="100"/>
        <c:noMultiLvlLbl val="0"/>
      </c:catAx>
      <c:valAx>
        <c:axId val="74320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867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5FCF-DEAF-44EA-BAFC-09DFD33B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4B4C-223D-4DCB-B60D-49C26E0B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22D-490A-46E3-8862-2451CFEE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17C-54EA-4A9D-A33C-6C14E182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AFC-56F0-413C-9767-AEF15172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0BFC-D301-4344-9096-85472F3B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203-1B2E-4A60-95DA-214C31C6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1DC-3CDE-45A0-95D4-2B9E2E5A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3E5C-CC16-4007-810A-7C54E8C7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9C13-451E-491C-B753-8A89FEE4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CC5-03D5-4AFB-92D3-1A185401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3E0-6E86-44D3-AD59-22E14041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34472-E41F-4502-B91D-00BD07D694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