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1171279"/>
        <c:axId val="49133075"/>
      </c:barChart>
      <c:catAx>
        <c:axId val="2117127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133075"/>
        <c:crosses val="autoZero"/>
        <c:auto val="1"/>
        <c:lblAlgn val="ctr"/>
        <c:lblOffset val="100"/>
        <c:noMultiLvlLbl val="0"/>
      </c:catAx>
      <c:valAx>
        <c:axId val="4913307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17127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D08F3-CC12-413D-8E49-BDEE99E56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66329-F53E-41BF-9E18-9372E8CC2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4D09E-DD93-4AA3-98BE-73E4AA88B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23B0E-A3D3-4F45-B8D4-2AFDD1C8B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D0D27-6989-42FF-BC18-061F95A53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78CCD-5FCF-4F54-B234-19019F80A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1ECF9-29E7-4F79-B8C3-4A02F3333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9C2D5-0215-4400-AAC9-FE7041DF1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FA4B5-644E-458A-8FB6-927CD1408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A3457-6120-44BD-9313-B5AE4CD63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49FC1-CC7B-4D54-96DF-82ECFD571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128DF-B89E-4106-B072-46EC20164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2FA393-BA56-47EC-9370-9EE405D6031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