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2931026"/>
        <c:axId val="56495150"/>
      </c:barChart>
      <c:catAx>
        <c:axId val="5293102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495150"/>
        <c:crosses val="autoZero"/>
        <c:auto val="1"/>
        <c:lblAlgn val="ctr"/>
        <c:lblOffset val="100"/>
        <c:noMultiLvlLbl val="0"/>
      </c:catAx>
      <c:valAx>
        <c:axId val="5649515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93102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38C0-8DE0-4BBD-92D3-B76BBF822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2748-C1AD-497F-9E0A-87E7DA713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93B0-FD74-42EC-A4A9-CED0F82A3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37BE-C5EE-4545-8A25-7362F8694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FD2B-8B53-44AB-964A-CEFF721F7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C1AC-320A-4EA6-81BB-684D8D1CB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EDB6-1B2A-4151-9EB3-A0D7DEBC4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6286-47EF-4737-ACF6-2F991BA9E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FD0D-8789-4969-998A-9118C4975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3BE8-E082-46E7-B0AA-C97F9C471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730F-BA52-49DA-B2A3-DEFC16695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4622-F4B8-474B-B2A8-495B5F0A2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A91E34-36D9-4E56-B5F9-FAB8A1A2FFE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