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86593"/>
        <c:axId val="60914274"/>
      </c:barChart>
      <c:catAx>
        <c:axId val="99586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14274"/>
        <c:crosses val="autoZero"/>
        <c:auto val="1"/>
        <c:lblAlgn val="ctr"/>
        <c:lblOffset val="100"/>
        <c:noMultiLvlLbl val="0"/>
      </c:catAx>
      <c:valAx>
        <c:axId val="60914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6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6A7-D3EE-465D-8D5F-7BAED493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953-7D1D-4B03-AC60-03CF9A6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5E2-F6AE-4CDE-ADEB-3DCF1657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D2F-7DB2-44D8-84CD-5407B9CC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850-5C04-42D5-9B77-DCDAD8F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996-FE69-4B87-AC52-5F46A19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EFA-3081-452F-A275-F399984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C5F-C86F-4079-8F59-3834632F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C20-358C-4427-BD4C-5A57449C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2F8-1062-42BB-A51B-34ABEDA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8A2-9F65-4E52-93F2-DEE7AA0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9C2-35F7-40BB-A663-20C9F72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31595-0C45-458A-9E69-8FCB56DB5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