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626622"/>
        <c:axId val="63351608"/>
      </c:barChart>
      <c:catAx>
        <c:axId val="926266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51608"/>
        <c:crosses val="autoZero"/>
        <c:auto val="1"/>
        <c:lblAlgn val="ctr"/>
        <c:lblOffset val="100"/>
        <c:noMultiLvlLbl val="0"/>
      </c:catAx>
      <c:valAx>
        <c:axId val="633516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266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80D-1850-45F5-B48C-5D93E074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4C73-3D0E-43D5-9721-8D12B295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DB5-B81D-4B48-A76B-DC4294AC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D2F0-6441-4F79-B877-BCFA5B76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740F-F083-4E36-9C13-D76E14FD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6FA4-A687-409B-B7D5-DC57626A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2FA7-4ED4-4C72-B8AB-6D6A8F51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5BBE-0110-4575-8C51-DFC4656F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FEB0-71D9-446A-8C65-BC287610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7DF1-2BD1-4AEC-852C-9CCF0821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6F5F-6D3A-427D-85F9-4E173DA0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BAA-6A0A-4E4A-858C-0330F1B8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E236C-9575-4AFF-BFFB-15075542B6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