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21649"/>
        <c:axId val="85197758"/>
      </c:barChart>
      <c:catAx>
        <c:axId val="64221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7758"/>
        <c:crosses val="autoZero"/>
        <c:auto val="1"/>
        <c:lblAlgn val="ctr"/>
        <c:lblOffset val="100"/>
        <c:noMultiLvlLbl val="0"/>
      </c:catAx>
      <c:valAx>
        <c:axId val="85197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1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8A2-68E5-4B70-B3BC-A6383B3B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6E0-2B48-481F-BD30-6DA1A83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A1E-3A2E-447F-AAD0-DEB85088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049-6CE3-4640-AA0E-0556A3F3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914-EDBB-4D03-AC65-0E7B7A4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071-F9E8-45D9-9957-426B2F6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18D-C14C-47BC-9561-A6D14622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734-DE06-4615-82B4-B1D50A5C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A3E-7452-465C-AC98-A4A7B7EA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C01-1699-46BC-B54B-A91803E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CC1-C655-49B5-859A-1C59C26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17D-45DF-4203-8CF0-EE1D5EC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FDA28-2D67-4222-8422-CB423B10A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