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093692"/>
        <c:axId val="8207410"/>
      </c:barChart>
      <c:catAx>
        <c:axId val="990936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07410"/>
        <c:crosses val="autoZero"/>
        <c:auto val="1"/>
        <c:lblAlgn val="ctr"/>
        <c:lblOffset val="100"/>
        <c:noMultiLvlLbl val="0"/>
      </c:catAx>
      <c:valAx>
        <c:axId val="82074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0936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68A1-1BD8-4857-8806-39776DF65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AA24-53D1-45A8-B7D4-FC92BB42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2125-1939-4BD8-A894-554E1D938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E679-92BA-4B70-ACDD-8055324E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5FCA-F719-4FF5-9119-72BD61A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B82E-C3AA-4D3B-9E13-477CDDBE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EB1E-0732-4407-9A8A-3198C94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203A-C404-4E1C-AC9F-37D3FC88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CC2-22A7-48BA-89FB-9FBCD83A5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F7B-8857-4325-93D9-0C4A2B4E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51FB-558C-40D2-9176-A74AD99E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86E1-8EE3-4C9B-81A2-C2D79924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1F7813-E1C8-4A7D-8066-0FE43C3C7C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