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60428"/>
        <c:axId val="21483160"/>
      </c:barChart>
      <c:catAx>
        <c:axId val="40060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83160"/>
        <c:crosses val="autoZero"/>
        <c:auto val="1"/>
        <c:lblAlgn val="ctr"/>
        <c:lblOffset val="100"/>
        <c:noMultiLvlLbl val="0"/>
      </c:catAx>
      <c:valAx>
        <c:axId val="21483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60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1C4-434F-4F01-8EA3-57AEB96B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7A9-C7F3-4E65-A835-AC29F360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DB3-6E74-48B3-A766-967DAB3B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5D9-DD0D-4D52-8D50-CCB309BD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816-043C-48BE-BDD5-799A7AC8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0202-8DD0-4CAA-940A-96662957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7A7-3936-4883-968A-8725F6BA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E07-C164-46DA-9A4D-B3C13B9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352-3EDF-402E-9489-FCCC7CD3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F3B2-AD5B-426D-A2B2-D5BF0BF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B12-6BA9-40BD-B4C5-E59CD19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4D3-CFAC-4AA4-9666-5756F827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7DB4-6921-4F77-891C-CBA392824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