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46631"/>
        <c:axId val="30055041"/>
      </c:barChart>
      <c:catAx>
        <c:axId val="69646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55041"/>
        <c:crosses val="autoZero"/>
        <c:auto val="1"/>
        <c:lblAlgn val="ctr"/>
        <c:lblOffset val="100"/>
        <c:noMultiLvlLbl val="0"/>
      </c:catAx>
      <c:valAx>
        <c:axId val="30055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46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214-DCB0-4A54-AE58-032A856E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E8F-A9BD-438F-BA04-E4EC1392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1EF-F333-4B78-8DBD-D9B200B5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3E7-1C6F-44F9-B77D-F4E74F4E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970-1A0F-4956-8207-4B22DF44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34C-9F49-43C6-BC55-E4672FF9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2137-D9C0-443D-B5FC-A410A418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780-A144-4C3F-BA28-819AA48D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635-9381-4973-B7C3-84931647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600-FDAD-40B4-9623-96CE3748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075-6431-49B1-BB92-59DAF74B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270-A4BC-4870-8979-03826E16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05324-C3B1-423F-A5F1-9B6EDB650F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