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25669"/>
        <c:axId val="77077585"/>
      </c:barChart>
      <c:catAx>
        <c:axId val="62425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77585"/>
        <c:crosses val="autoZero"/>
        <c:auto val="1"/>
        <c:lblAlgn val="ctr"/>
        <c:lblOffset val="100"/>
        <c:noMultiLvlLbl val="0"/>
      </c:catAx>
      <c:valAx>
        <c:axId val="77077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25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1AB-4964-456E-9258-2060CCA1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F87-6F26-4D33-9406-96DA9FF9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73D-A88F-4B07-9E8E-8281BF8F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94A8-C6D4-40C6-A2BA-4F732BAB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4CE-029F-49A1-9844-CFAFE17F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0B5-CB0C-4CDA-8E5F-3E2117E5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2E3-DDFF-4FAA-9091-57EB249C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420-8EDE-4AD1-A7CB-0334CBC5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5ED-279B-495E-A6E7-4A11BBB8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74C-D12D-4712-A000-5BF4513A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404-0988-495F-8CAD-06ED6F0B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3E1-A701-4145-BAA4-6762B825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09290-1E38-4F8C-88EA-6EAA028CDB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