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77203"/>
        <c:axId val="42047329"/>
      </c:barChart>
      <c:catAx>
        <c:axId val="39777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47329"/>
        <c:crosses val="autoZero"/>
        <c:auto val="1"/>
        <c:lblAlgn val="ctr"/>
        <c:lblOffset val="100"/>
        <c:noMultiLvlLbl val="0"/>
      </c:catAx>
      <c:valAx>
        <c:axId val="42047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77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2C2-CFC4-4627-8AED-410A1843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A88-8582-4B85-B20E-953CF9FD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59C-8334-4943-A8C5-748A44CE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ACA-4E9B-413B-AC8A-8CB73619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3F4-BEC8-4D3E-9114-AF74CB88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7FF-0DB4-4144-B8D4-3F9AD673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0C3-4331-4AF2-8D13-16F6B2D7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B9E-8DBC-4977-A225-D1D846A4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2B6-CB27-445E-9F19-7401E865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50C-5E1B-4C70-AEE0-C9CF9A5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8BC-7C21-496D-967B-B50514A5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EB7-27EB-4BCF-A23B-109FF81B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6D220-ABBF-43F4-A54C-13C2597037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