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41338"/>
        <c:axId val="42029868"/>
      </c:barChart>
      <c:catAx>
        <c:axId val="91641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29868"/>
        <c:crosses val="autoZero"/>
        <c:auto val="1"/>
        <c:lblAlgn val="ctr"/>
        <c:lblOffset val="100"/>
        <c:noMultiLvlLbl val="0"/>
      </c:catAx>
      <c:valAx>
        <c:axId val="42029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41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760-0021-47F3-BF3C-B1EBEB59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588-9F2F-46A0-BF1B-43B83D11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622-CD4A-4EDE-BAFB-C1C0AAC3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570-4E44-4720-9A7E-F8FAEB73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F63-0E57-48DA-BC1B-4E2F850C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DF7-30CC-419C-A32E-EE843A08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57C-F410-4C81-9B93-51CC70F1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475-53B7-4D4C-A72D-FCFE268A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24B-6B8A-4474-8314-0B0760F3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E08-FD1B-415B-B162-1567603F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E94-D1FE-4DC5-9CF0-FF852C8E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213-FF21-4E4C-BA39-9B92D2C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00203-17EC-4F19-8FB1-58D5317FE6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